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79B3-874D-4669-8B8D-122C45F3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B367-5303-4E13-8193-6FCBEECF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1D8B-5DC9-4998-BD44-58BE26EF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58A1-AEEF-468B-86C7-C736D9CD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1C69-E53B-4928-9F35-99B1939E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59BA-2056-49B0-9A90-5994386D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360C-2CE2-47E5-A9B0-D918FE98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08A8-5DF6-4EDE-A2AA-8C3BAA8A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83F2-F078-4D06-BDC2-92B1BB4F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11E6-467B-4542-882F-A7A5ACBF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6125-EBD3-4B91-BFAD-C8BC45BE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5EA45-67FF-4D3A-A71B-D7C1A67C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D433-DA6C-413F-8F88-615F6CB6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D5D5-3BD8-4F37-8916-A7F17726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FEDF-B19B-411A-8490-AA3906DE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2F16-A582-4810-A935-8FB1ED0B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AF8E-E697-4055-9E0B-2F6E563F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E2BF6-76A5-4B0D-BFB4-A62D1897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7B586-9F52-4DB6-BB18-77A98B2F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E37DA-1E15-489C-81F0-61748532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1CE7C-3E92-4C68-9055-E3402217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00A0-A808-428B-A05D-262CB8CF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041D-1053-4943-BC46-C2A88097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B1293-273C-4844-82AB-FD88175F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4836-713F-4AD7-A3F1-B7BB89197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F71D-41ED-4D23-A28B-271FB09AB5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470760" y="541440"/>
            <a:ext cx="21924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十四章  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植物中脂肪、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Vc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单宁含量的测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116000" y="2852640"/>
            <a:ext cx="72723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第一节   脂肪含量的测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第二节  植物中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含量的测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第三节  植物中单宁含量的测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24000" y="1341360"/>
            <a:ext cx="828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法适于测定谷类、油料作物种子大量样品的脂肪测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116000" y="62064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二、残余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24000" y="2492280"/>
            <a:ext cx="83516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测定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试样的选取和制备：选取有代表性的种子，拣出杂质，按四分法缩减取样。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小粒种子，如芝麻、油菜等，取样量不得少于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10g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；大粒种子，如大豆、花生仁等取样量不得少于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15g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395280" y="2223720"/>
            <a:ext cx="8280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将样品预先在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80℃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的烘箱中干燥约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小时，谷类、大豆、油沙豆经粉碎后，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95%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的可过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目筛；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油菜、胡麻、红花种子等粉碎后，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95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％的可过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目筛；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花生仁、蓖麻仁等切成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0.5mm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以下的薄片；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芝麻用粉碎机或碾钵碾碎，不要留整粒；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向日葵种子经剥壳后，籽仁粉碎至均匀的粉状。</a:t>
            </a:r>
            <a:r>
              <a:rPr b="1" lang="zh-CN" sz="3200" spc="-1" strike="noStrike">
                <a:solidFill>
                  <a:srgbClr val="990099"/>
                </a:solidFill>
                <a:latin typeface="宋体"/>
              </a:rPr>
              <a:t>试样处理完毕后，立即混合均匀，装入磨口瓶中备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611280" y="1571760"/>
            <a:ext cx="813744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将滤纸切成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</a:rPr>
              <a:t>7*7cm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大小或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</a:rPr>
              <a:t>10*10cm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大小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谷类适用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，并叠成一边不封口的滤纸袋，用铅笔编上序号，顺序排列在培养皿中，每个内部不得多于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包。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将培养皿连同滤纸包移入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5±2℃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烘箱中烘干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小时后取出，放入干燥器内冷却至室温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约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45-6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分钟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分别将各包放入同一个称量瓶中称重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要求称样的室内相对湿度不宜高于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70%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用角勺将已制备好的样品小心地装入滤纸袋内，油料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谷物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3-5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，封上滤纸袋口，并按原序号排列在培养皿中，放入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05±2℃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烘箱中烘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小时后取出，放入干燥器内冷却至室温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约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45-60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分钟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68360" y="692280"/>
            <a:ext cx="820908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分别将各包在原称量瓶中称量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接着将样包装入脂肪提取器地抽提筒中，倒入无水乙醚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或石油醚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使之刚好超过样包高度，连接好脂肪提取器的各部分，浸泡过夜。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次日将浸泡后的无水乙醚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或石油醚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放入抽提瓶，在抽提瓶中加入几粒浮石，然后在抽提筒中重新倒入无水乙醚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或石油醚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使其完全浸泡样包，连接好各部分，接通冷凝水，在水浴中加热抽提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节水温，使其冷凝下滴的液体呈连珠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回流量在每分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提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-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539640" y="765000"/>
            <a:ext cx="7704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抽提完毕，取出样包，在通风处使乙醚挥发。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另将抽提器中剩余乙醚回收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将挥发尽乙醚的样包按原序号排列在培养皿中，放入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05±2℃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烘箱中烘干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小时后取出，放入干燥器内冷却至室温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45-6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分钟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分别将各包在原称量瓶中称量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m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468360" y="1628640"/>
            <a:ext cx="799308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粗脂肪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*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0/(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式中：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抽提后滤纸包加样品质量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,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抽提前滤纸包加样品质量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,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滤纸包的质量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,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732120" y="70632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、结果计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79280" y="4365720"/>
            <a:ext cx="86407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果要求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算术平均值表示，保留小数后两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允许相对相差，谷类不大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5%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大豆不大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油料不大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.5%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68360" y="2943360"/>
            <a:ext cx="806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维生素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又叫抗坏血酸，人体内无法合成，必须从食物中摄取。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缺乏会诱发许多疾病，最易发生的是坏血病，常见症状是牙齿出血不止，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是治疗坏血病的特效药；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还具有降低血液中的胆固醇含量、软化血管、防止动脉粥样硬化等作用，并可提高肌体对肿瘤的抵抗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11280" y="549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第二节  植物中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Vc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含量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00" y="1586160"/>
            <a:ext cx="856908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成熟的粮油作物籽粒中不含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在新鲜的水果、蔬菜和某些鲜嫩的籽粒中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含量较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维生素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测定方法较多，有容量法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包括：碘滴定法，染料滴定法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即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,6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二氯靛酚滴定法，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,4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二硝基苯肼法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；比色法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包括：染料比色法、荧光法、紫外分光法、钼酸铵比色法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等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测定还原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较为常用的方法是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2,6-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二氯靛酚滴定法；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测定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总量，用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2,4-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二硝基苯肼比色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684360" y="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一、还原态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VC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,6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二氯靛酚滴定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95280" y="1484280"/>
            <a:ext cx="820728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方法原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抗坏血酸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(Vc)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中有烯二醇结构存在，具有还原性，能将蓝色染料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2,6-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二氯靛酚还原为无色的化合物，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被氧化为脱氢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,6-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二氯靛酚具有酸碱指示和氧化还原指示两种特性。其氧化态在碱性介质中呈深蓝色，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在酸性介质中呈浅红色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(pH4-5)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；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还原态时无色。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根据这一特性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用碱性蓝色染料的标准溶液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滴定植物样品酸性浸出液中的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到刚变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浅红色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为终点，根据染料的用量计算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的含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68360" y="1556640"/>
            <a:ext cx="828036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pH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较高时，易被空气中的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所氧化，因此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浸提和测定都需要在酸性的溶液中进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般用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%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草酸溶液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2,6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－二氯靛酚对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测定有一定的选择性，待测液中非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还原性物质一般不干扰测定，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但样品中含有较多的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Fe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+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Sn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+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Cu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+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SO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-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S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O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-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SO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等还原性杂质时，对测定有干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468360" y="2869200"/>
            <a:ext cx="835164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概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植物组织中脂肪的存在形态有两种即游离态和结合态。游离态的脂肪是以小油滴的形态存在于植物体内，它们易溶于有机溶剂，如乙醚、石油醚、三氯甲烷、苯、二硫化碳、四氯化碳等。测定中可用有机溶剂将脂肪与其它成分分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结合态的脂类无法用有机溶剂直接提取，如需测定，需先将样品用酒精或盐酸水解后，才能加以提取。一般农业上只测定游离态的脂肪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826920" y="476280"/>
            <a:ext cx="727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第一节   脂肪含量的测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1714680"/>
            <a:ext cx="830880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待测液的制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新鲜的果蔬样品：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称取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0.0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鲜样放入植物样品组织捣碎机中，加入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草酸溶液，打成浆状，称取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-40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浆状样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含还原态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1-5mg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用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的草酸溶液转入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00m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容量瓶中，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的草酸溶液定容、摇匀。干过滤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弃去最初的几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m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滤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滤液有颜色，可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-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勺白陶土脱色，不易过滤的样品，也可用离心机分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700360" y="5284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测定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611280" y="1863000"/>
            <a:ext cx="806436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脱水蔬菜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称取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-5.000g(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含还原态的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 1-5mg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放入碾钵中，加入一定量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草酸溶液碾成浆状液，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草酸溶液洗入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0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容量瓶中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草酸溶液定容、摇匀，干过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含有还原性物质的样品：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含有较多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Fe</a:t>
            </a:r>
            <a:r>
              <a:rPr b="1" lang="en-US" sz="2800" spc="-1" strike="noStrike" baseline="30000">
                <a:solidFill>
                  <a:srgbClr val="006600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样品可用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80ml/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醋酸代替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草酸溶液作提取剂。含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样品可于定容前加入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丙酮，以消除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11280" y="1118520"/>
            <a:ext cx="820872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样品滴定：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吸取无色的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待测滤液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5-10.00ml(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含还原态的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Vc 0.2-1mg)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，于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50ml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三角瓶中，用棕色半微量滴定管装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2,6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－二氯靛酚标准液滴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终点：浅红色，约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秒不退为终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同时吸取与样品相同体积的浸提剂做空白试验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空白值应在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0.08-0.10ml)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619280" y="54936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结果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50920" y="1484280"/>
            <a:ext cx="88930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含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mg/kg)=(V-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* T *1000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式中：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滴定样品消耗染料标准液的体积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滴定空白消耗染料标准液的体积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T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染料标准液对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滴定度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滴定的样品溶液相当的样品质量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539640" y="2321640"/>
            <a:ext cx="80647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样品在捣碎或碾磨时就需要加入浸提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叫保护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氧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常用的保护剂中，以偏磷酸的效果最好，且具有沉淀蛋白质的作用，但因其价格较高，同时在室温下放置时易水解转化为正磷酸，降低对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保护能力。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草酸廉价易得，保护能力基本与偏磷酸相当、较为常用。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而醋酸可减少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Fe</a:t>
            </a:r>
            <a:r>
              <a:rPr b="1" lang="en-US" sz="2800" spc="-1" strike="noStrike" baseline="30000">
                <a:solidFill>
                  <a:srgbClr val="321900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的浸出量，适于含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Fe</a:t>
            </a:r>
            <a:r>
              <a:rPr b="1" lang="en-US" sz="2800" spc="-1" strike="noStrike" baseline="30000">
                <a:solidFill>
                  <a:srgbClr val="321900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较多的样品提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187280" y="40464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611280" y="2693880"/>
            <a:ext cx="813744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,6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二氯靛酚试剂长时间保存，会分解产生降解产物；配制成的溶液也较易分解产生降解产物，而使滴定的终点不敏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用前需检测，方法是：取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5m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染料溶液，加入过量的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草酸溶液，反应后如溶液带有蓝色，则染料溶液不能使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在测定中，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,6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二氯靛酚试剂配好后、应较快使用，不要长时间存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2340000" y="333360"/>
            <a:ext cx="540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395280" y="2511000"/>
            <a:ext cx="82803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、草酸溶液在阳光的照射下易生成过氧化物，当有催化剂如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Cu</a:t>
            </a:r>
            <a:r>
              <a:rPr b="1" lang="en-US" sz="2800" spc="-1" strike="noStrike" baseline="30000">
                <a:solidFill>
                  <a:srgbClr val="cc00cc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存在时，过氧化物可氧化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引起误差；草酸放置时要避光存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④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样品中可能含有的其它还原性物质也可还原染料，但其反应速度较慢，因此，滴定时速度要适当快一些，终点为浅红色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秒不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⑤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用白陶土脱色时，要对每批新的白陶土测定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回收率，且加入白陶土脱色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应快速过滤、滴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2340000" y="333360"/>
            <a:ext cx="540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95280" y="2000520"/>
            <a:ext cx="829944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⑥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,6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二氯靛酚标准液标定，用标准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溶液，但因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在空气中易氧化而使浓度改变，因此，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标准液应在临用前当天进行标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标定方法：用碘酸钾标准液，滴定含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KI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草酸溶液，碘酸钾氧化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到达终点时微过量的碘酸钾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KI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反应生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用淀粉指示终点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2340000" y="333360"/>
            <a:ext cx="540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68360" y="2424600"/>
            <a:ext cx="813744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方法原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总量包括还原态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脱氢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和二酮古乐糖酸。样品中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用活性炭氧化为脱氢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后，在硫酸作用下进一步水解为二酮古乐糖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二酮古乐糖酸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,4-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二硝基苯肼耦合生成红色的脎。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其颜色的深浅与二酮古乐糖酸的浓度成正比，可用比色测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95280" y="423720"/>
            <a:ext cx="792180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二、维生素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总量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,4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二硝基苯肼比色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826920" y="2282760"/>
            <a:ext cx="741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待测液的制备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称取适量样品加入等质量的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%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草酸溶液，在植物组织捣碎机中打成浆状。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取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20g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浆状物用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%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草酸溶液转入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00ml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容量瓶中，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%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草酸定容、摇匀，干过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547640" y="5634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测定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24000" y="2581200"/>
            <a:ext cx="83516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测定时应注意，浸提的仪器、溶剂、和样品中都不能含有水分，因为少量水的存在可能引起结合态脂的水解，从而使结果偏高；同时水分又是糖等水溶性物质的溶剂，也将使粗脂肪的结果偏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样品烘干时最好在惰性气体下进行，以免不饱和脂肪酸的氧化，而脂肪酸的过氧化物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过氧脂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是不易溶物，将使结果降低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1908000" y="549360"/>
            <a:ext cx="6120000" cy="504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68360" y="2114640"/>
            <a:ext cx="813600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吸取滤液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ml(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总量约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-10mg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于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三角瓶中，加入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%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草酸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加入一勺活性炭。摇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分钟，静置或干过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吸取滤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两份分别于两个大试管中，一个为样品管、另一个为样品空白管；两管内各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滴硫脲溶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0g/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醇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样品管中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,4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硝基苯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两个管都加上盖，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恒温箱中保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，取出样品管放入冰浴中；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目的：终止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18600" y="534960"/>
            <a:ext cx="24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Vc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总量的测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468360" y="692280"/>
            <a:ext cx="82072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空白管冷却至室温后加入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,4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二硝基苯肼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0.5ml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然后放入冰浴中。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从滴定管中滴加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9:1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的硫酸溶液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2ml(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在冰浴中加入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，边滴边摇，防止溶液温度上升后硫酸将糖脱水炭化而转为黑色。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将各管从冰浴中取出，在室温下放置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分钟，立即在分光光度计上于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540nm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波长下比色测定，用样品管与空白管的吸光度差值从标准曲线查得相应浓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11280" y="1089000"/>
            <a:ext cx="820872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标准曲线的制备：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吸取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ug/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标准液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稀释至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得系列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ug/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标准液。各取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于大试管中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以下步骤同样品测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结果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24000" y="4149720"/>
            <a:ext cx="856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(mg/kg)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标准曲线查得的浓度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取用倍数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称取样品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468360" y="2611800"/>
            <a:ext cx="8136000" cy="14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硫脲可防止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被进一步氧化，且可帮助脎的形成，其浓度对显色有影响，应控制各管中硫脲的浓度一致，以免影响显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从冰浴中取出放置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分钟后，溶液的颜色会继续变深，必须准确控制加入硫酸后的时间相对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042920" y="54144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468360" y="3246120"/>
            <a:ext cx="8380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单宁又称鞣酸或鞣质，是一类复杂的有机酚类化合物的总称。分子量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00-300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之间，分子的结构也差异较大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致可分为两类：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具有脂类性质的可水解鞣质，用酸或酶可将其分解为糖、多元酚、和酚酸，遇氯化铁显蓝黑色，以单宁为代表；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、不具有脂类性质的缩合鞣质，不能水解，遇氯化铁呈暗绿色，以儿茶素为代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但它们具有酚类物质的一般性质，很易溶于水，可与生物碱、明胶、蛋白质等生成沉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4539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第三节  植物中单宁含量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539640" y="2301480"/>
            <a:ext cx="814248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单宁存在于许多水果和作物的籽粒中。如板栗、石榴、柿子、核桃等植物的根、茎、叶、花和果实中单宁的含量都较高。一些水果成熟前的涩味也与单宁含量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单宁具有收敛止泻和抑菌作用，可治疗腹泻或痢疾。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但由于单宁与蛋白质会生成沉淀，影响蛋白质的消化、降低蛋白质的利用率。因此粮食或饲料中的单宁含量影响其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1042920" y="2651400"/>
            <a:ext cx="6972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单宁的测定方法很多：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有普鲁士蓝法、蛋白质沉淀法、高锰酸钾法、香草醛法及改良的香草醛法、费林－丹尼斯法，紫外分光法等，以普鲁士蓝法较为简便快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84360" y="1587600"/>
            <a:ext cx="7920000" cy="32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方法原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果实提取液中的单宁及其酚类化合物，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在一定条件下将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Fe</a:t>
            </a:r>
            <a:r>
              <a:rPr b="1" lang="en-US" sz="3200" spc="-1" strike="noStrike" baseline="30000">
                <a:solidFill>
                  <a:srgbClr val="006600"/>
                </a:solidFill>
                <a:latin typeface="宋体"/>
              </a:rPr>
              <a:t>3+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还原为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Fe</a:t>
            </a:r>
            <a:r>
              <a:rPr b="1" lang="en-US" sz="3200" spc="-1" strike="noStrike" baseline="30000">
                <a:solidFill>
                  <a:srgbClr val="006600"/>
                </a:solidFill>
                <a:latin typeface="宋体"/>
              </a:rPr>
              <a:t>2+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，在盐酸介质中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Fe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+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与铁氰化钾反应生成深蓝色配合物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KFe[Fe(CN)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]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六氰合铁酸亚铁化钾，蓝色的深浅与单宁含量成正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4360" y="404640"/>
            <a:ext cx="686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、普鲁士蓝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539640" y="2110320"/>
            <a:ext cx="81360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待测液的制备：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果实等样品洗净去皮，用不锈钢刀随机每个果两个部位的果肉薄片共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0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立即投入预先称好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0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水中，置于组织捣碎机中，打成匀浆；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称取匀浆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0.00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，用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40ml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左右的水转入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00ml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容量瓶中，于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80℃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水浴中保温提取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分钟，取出，冷却后，水定容，摇匀，干过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籽粒、干果等样品磨细过筛后，可直接称取，转入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容量瓶中，加水保温提取，最后定容、摇匀、干过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692360" y="47952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测定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468360" y="1000080"/>
            <a:ext cx="8080200" cy="42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比色测定：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吸取滤液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2-10ml(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单宁含量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0-100ug)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，于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50ml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容量瓶中，加水至约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30ml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加入浓度为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0.1mol/L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的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FeCl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1.00ml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浓度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0.0080mol/L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的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K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Fe(CN)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1.00ml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充分摇动，用水定容，摇匀；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分钟后于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650-760nm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波长下，与标准系列一起，比色测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95280" y="2084400"/>
            <a:ext cx="84247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游离脂肪的测定常用的有直接法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油重法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和残余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也可用折光法测定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测定原理是利用油与溶剂的折光率差别，选用折光率很高而不挥发的溶剂，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溴代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折光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658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在冷时也很易溶解油，因油的折光率较低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当溶剂溶解样品中的脂肪后，溶液的折光率下降，降低的值与溶解的油量成正比，可根据公式，计算出样品的脂肪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1908000" y="476280"/>
            <a:ext cx="6336000" cy="504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468360" y="1523880"/>
            <a:ext cx="8207280" cy="36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标准曲线的绘制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吸取浓度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ug/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单宁标准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分别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个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0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容量瓶中，加水至约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0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加入浓度为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0.1mol/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FeCl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溶液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.00m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浓度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0.0080mol/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K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Fe(CN)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溶液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.00m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充分摇动，用水定容，摇匀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为浓度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0.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0.8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.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2.0ug/ml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的单宁系列标准液，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分钟后于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650-760nm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波长下，与样品一起，比色测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684360" y="1775520"/>
            <a:ext cx="798984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宁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mg/g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查得显色液的浓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显色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用倍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*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式中：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m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称取样品的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042920" y="620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结果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755640" y="1576440"/>
            <a:ext cx="792000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显色后溶液的颜色与单宁含量有关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单宁浓度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&gt;2ug/ml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时呈蓝色；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-2ug/ml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时为蓝绿色；</a:t>
            </a:r>
            <a:r>
              <a:rPr b="1" lang="en-US" sz="3200" spc="-1" strike="noStrike">
                <a:solidFill>
                  <a:srgbClr val="990099"/>
                </a:solidFill>
                <a:latin typeface="宋体"/>
              </a:rPr>
              <a:t>&lt;1ug/ml</a:t>
            </a:r>
            <a:r>
              <a:rPr b="1" lang="zh-CN" sz="3200" spc="-1" strike="noStrike">
                <a:solidFill>
                  <a:srgbClr val="990099"/>
                </a:solidFill>
                <a:latin typeface="宋体"/>
              </a:rPr>
              <a:t>时为黄绿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浓度大于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2ug/ml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不仅溶液的吸光度过大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高于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0.6)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而且易产生沉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因此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测定时单宁的浓度要控制在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2ug/ml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以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19280" y="476280"/>
            <a:ext cx="611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250920" y="1795680"/>
            <a:ext cx="842472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方法原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用蛋白质定量地沉淀单宁后，将其溶解于十二烷基磺酸钠的三乙醇胺溶液中，在氯化铁试剂作用下生成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红色络合物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该化合物在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510nm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波长下有最大吸收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颜色的深浅与单宁含量呈正比，可用比色法测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适测浓度：单宁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&lt;0.5mg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55640" y="3268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、蛋白质沉淀比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250920" y="1257840"/>
            <a:ext cx="864216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标准系列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准确吸取浓度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.5mg/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单宁标准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.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.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.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.8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0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5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离心管中，分别加水至总体积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加入浓度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0mg/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牛血清蛋白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充分混匀后，在室温下放置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分钟，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00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分钟的速度下离心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分钟，弃去上清液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加入约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9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十二烷基磺酸钠－三乙醇胺溶液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十二烷基磺酸钠的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％，溶于体积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％三乙醇胺水溶液中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氯化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化铁浓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01mo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溶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01mol/L HC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立即用玻璃棒或液体混合器混匀，并加入十二烷基磺酸钠－三乙醇胺溶液至总体积为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0ml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。于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510nm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波长下比色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547640" y="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测定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826920" y="1483920"/>
            <a:ext cx="72741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待测液的制备方法同普鲁士蓝法；吸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单宁提取液，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离心管中，以下同标准系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547640" y="47628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样品测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116000" y="3284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结果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11280" y="4365720"/>
            <a:ext cx="770400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宁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mg/g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查得显色液的浓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显色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用倍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*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式中：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称取样品的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1258920" y="76500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内容全部结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5950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1835280" y="1557360"/>
            <a:ext cx="60498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谢谢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395280" y="1653120"/>
            <a:ext cx="849780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、油重法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仲裁法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适于测定油料作物种子中的粗脂肪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测定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取有代表性的种子，拣出杂质，按四分法缩减取样。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试样选取和制备完毕后，立即混合均匀，装入磨口瓶中备用。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小粒种子，如芝麻、油菜等，取样量不得少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5g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；大粒种子，如大豆、花生仁等取样量不得少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30g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豆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5±2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烘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后粉碎，并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筛，花生仁切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带壳油料作物种子，如花生果、蓖麻籽、向日葵籽等，取样量不得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部剥壳，分别称量，计算出仁率，再将籽仁切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539640" y="2376360"/>
            <a:ext cx="806472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称取样品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4g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两份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含油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0.7-1g)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，精确至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0.001g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。置于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05±2℃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烘箱中烘干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小时后取出，放入干燥器内冷却至室温。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同时另测试样的水分。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将试样放入碾钵内碾细，必要时可加入适量纯石英砂助碾，用角勺将碾细的试样移入干燥的滤纸筒内，取少量脱脂棉蘸乙醚抹净碾细的粉末、擦净碾锤、碾钵和角勺上的试样和油迹，一并投入滤纸筒内，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对于已烘干磨细的样品可直接称样装筒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在试样面层塞以脱脂棉或折叠封闭，然后将滤纸筒放入抽提管内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也可用滤纸包进行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539640" y="1893600"/>
            <a:ext cx="80089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在装有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-3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粒浮石并已烘至恒重的洁净的抽提瓶内，加入约瓶体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1/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的无水乙醚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把抽提器各部分连接起来，打开冷凝水流，在水浴上进行抽提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调节水浴的温度，使冷凝下滴的乙醚速度为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8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滴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分。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抽提时间一般需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8-10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小时，含油量高的作物种子，应延长抽提时间，至提取管中的乙醚用滤纸试验无油迹时，抽提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422280" y="765000"/>
            <a:ext cx="84708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抽提完毕后，从抽提管中取出滤纸筒，连接好抽提器，在水浴上蒸馏回收抽提瓶中的乙醚，待残留体积低于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10ml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时，取下抽提瓶，在沸水浴上蒸去残余的乙醚。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将盛有粗脂肪的抽提瓶放入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05±2℃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烘箱中烘干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小时后取出，放入干燥器内冷却至室温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45-60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分钟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，称量。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再烘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分钟，冷却、称量，至恒重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抽提瓶增加的质量为粗脂肪的质量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注：抽提出的油应是清亮的，否则应重做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324000" y="2138400"/>
            <a:ext cx="83516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粗脂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%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干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粗脂肪的质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样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干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带壳的油料作物粗脂肪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%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＝籽仁粗脂肪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%*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出仁率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结果用算术平均值表示，保留小数后两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结果允许相对差相，大豆不大于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；其它作物不大于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%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763640" y="836640"/>
            <a:ext cx="491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结果计算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7T02:14:42Z</dcterms:created>
  <dc:creator>ysx</dc:creator>
  <dc:description/>
  <dc:language>en-US</dc:language>
  <cp:lastModifiedBy>sxyang</cp:lastModifiedBy>
  <dcterms:modified xsi:type="dcterms:W3CDTF">2019-02-25T00:37:56Z</dcterms:modified>
  <cp:revision>11</cp:revision>
  <dc:subject/>
  <dc:title>第八章  植物中脂肪含量的测定</dc:title>
</cp:coreProperties>
</file>